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3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15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630988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ADA-D0DB-4211-9D62-2C24AB21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A43-95C8-4923-B022-3C3B0B46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593-D98C-4897-9EF5-8544BD5A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A4C-6536-446A-9C10-04EB4BAD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4E1-BEEA-4E8F-BDBF-889303B1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BFA-3121-4ED0-886F-3F79A11A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188-5AF6-450A-AA80-150D6E84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F01-BCC4-44A9-B663-331CD2FB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2F6-DBF7-4640-87F9-9368C1C9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8F2-04E8-4954-B470-789CC43B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6DF-B4B5-48D2-91E0-04535FA1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FA8-7719-42FB-A1D5-496EC54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7E7E-9D84-48FF-B184-8B334DBB4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Cyr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ценка масштаб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 динамики изменения платежеспособного спроса на жилье и объемов жилищного строительства в России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400800" cy="6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Фонд «Институт экономики го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94172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6021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о заказу ОАО «Банк внешней торговли» (Внешторгба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151-F1D2-4DE4-AB86-01AE5BB59B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ищные потребности населения в 2003 г. (в % от всех домохозяйст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1130400"/>
          <a:ext cx="8424720" cy="274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30400"/>
                    <a:ext cx="8424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46040" y="3784680"/>
          <a:ext cx="7845480" cy="3060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6040" y="3784680"/>
                    <a:ext cx="7845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A76-E49B-46E4-9B58-DBE9250C0B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е способы улучшения жилищных условий (кроме приобретения и строительства жилья на рынк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4160" y="3854520"/>
          <a:ext cx="11504520" cy="23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3854520"/>
                    <a:ext cx="1150452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50920" y="1773360"/>
            <a:ext cx="69850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я домохозяйств, желающих улучшить жилищные условия другими способами, % от всех домохозя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38920" y="2095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EAC-DB09-4684-A762-286A362E44C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охозяйства, желающие улучшать жилищные условия другими способами или не видящие возможности улучшать жилищные услов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2133720"/>
          <a:ext cx="4537080" cy="32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133720"/>
                    <a:ext cx="4537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356000" y="2629080"/>
          <a:ext cx="4788000" cy="2535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629080"/>
                    <a:ext cx="478800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FC4-F12E-47EF-A46F-447FDC90FAB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ость и спрос населения на жилье и жилищные кредиты по условиям 2003 г.  (в ценах 2003 г.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74760" y="1555920"/>
          <a:ext cx="8373960" cy="3859200"/>
        </p:xfrm>
        <a:graphic>
          <a:graphicData uri="http://schemas.openxmlformats.org/drawingml/2006/table">
            <a:tbl>
              <a:tblPr/>
              <a:tblGrid>
                <a:gridCol w="2114280"/>
                <a:gridCol w="693720"/>
                <a:gridCol w="698760"/>
                <a:gridCol w="695160"/>
                <a:gridCol w="695520"/>
                <a:gridCol w="695160"/>
                <a:gridCol w="695520"/>
                <a:gridCol w="695160"/>
                <a:gridCol w="695520"/>
                <a:gridCol w="695160"/>
              </a:tblGrid>
              <a:tr h="31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требность в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6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потребность в жилье д/х, готовых улучшить жилищные условия рыночными способ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3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8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 т.ч.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39640" y="6165720"/>
            <a:ext cx="70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Оценки построены на основе данных опроса населения с учетом условий приобретения жилья по ценам 2003 г. Показатели не учитывают возможные ограничения по кредитованию населения и предложения жил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79C-9970-4F79-AD5F-2D6F50637D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мохозяйств в зависимости от предпочитаемой финансовой схемы приобретения жилья в 2004 г. (в % от домохозяйств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0000" y="693720"/>
          <a:ext cx="734544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693720"/>
                    <a:ext cx="7345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54200" y="6062760"/>
            <a:ext cx="64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Среди всех респондентов, принявших участие в опросе, проведенного Центром Исследований РАМ в декабре 2003 - январе 2004 г., было отобрано 17,1% респондентов в возрасте от 21 до 50 лет и с совокупными доходами домохозяйства от 6 тыс. руб. в мес. (для Москвы – от 15 тыс. руб. в месяц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7EF-FA91-4A99-AC48-31554CE4609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ос на жилье в 2004 г. в зависимости от типа приобретаемого жилья, в млрд. руб. (в ценах 2003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6440"/>
            <a:ext cx="7624440" cy="3801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587700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опроса без учета домохозяйств, не определившихся со временем улучшения жилищных усло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D54-9AEA-4B63-BEB2-90E98048ACC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тказа от использования банковских кредитов при покупке жилья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11280" y="1522440"/>
            <a:ext cx="756108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8AF-3EC7-409A-8476-7986F934700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 возможностей развития жилищного строительства и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D93-5E41-4102-A087-E63C2B61E2B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947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ы объемов жилищного строительства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по оценке субъектов Российской Феде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308640"/>
            <a:ext cx="705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 экспертной оценке ИЭ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Оценки построены на основе данных опроса населения и не включают социальное жил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309600"/>
                <a:gridCol w="1020960"/>
                <a:gridCol w="2630520"/>
                <a:gridCol w="576000"/>
                <a:gridCol w="536760"/>
                <a:gridCol w="615960"/>
                <a:gridCol w="614160"/>
                <a:gridCol w="617760"/>
                <a:gridCol w="614160"/>
                <a:gridCol w="615960"/>
                <a:gridCol w="6336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про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сохранении существующей ситуации в сфере жилищного строительства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условии увеличения платежеспособного спроса населения на жилье, млн. кв. 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 по условиям 2003 г.(в ценах 2003г.)**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довлетворения спроса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первом варианте прогнозов увеличения объемов жилищного строитель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тором варианте прогнозов увеличения объемов жилищного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69696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A93-87BB-4275-A6C3-1A5577082D3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ноз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ъектов Российской Федерации и муниципальных образова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структуре источников финансирования жилищного строительства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5480" y="1415880"/>
          <a:ext cx="7264440" cy="53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480" y="1415880"/>
                    <a:ext cx="726444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5F5-C64C-4501-9113-1267960966B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 рынка жилья, потребности населения в улучшении жилищных условий и платежеспособного спроса на жилье и жилищные креди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4B0-2885-48F5-9AD9-060708EDDFF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сохранении существующей ситуации в сфере жилищного строительства прогнозируемыми объемами производства основных видов строительных материалов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197000"/>
          <a:ext cx="8713800" cy="4910040"/>
        </p:xfrm>
        <a:graphic>
          <a:graphicData uri="http://schemas.openxmlformats.org/drawingml/2006/table">
            <a:tbl>
              <a:tblPr/>
              <a:tblGrid>
                <a:gridCol w="601920"/>
                <a:gridCol w="2422440"/>
                <a:gridCol w="792000"/>
                <a:gridCol w="1081080"/>
                <a:gridCol w="1224000"/>
                <a:gridCol w="1440000"/>
                <a:gridCol w="11523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95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6172200"/>
            <a:ext cx="61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сохранении существующей ситуации в сфере жилищного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86C-4734-4EA9-B55C-002A63D3C47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9280" y="1197000"/>
          <a:ext cx="8785440" cy="4910040"/>
        </p:xfrm>
        <a:graphic>
          <a:graphicData uri="http://schemas.openxmlformats.org/drawingml/2006/table">
            <a:tbl>
              <a:tblPr/>
              <a:tblGrid>
                <a:gridCol w="606600"/>
                <a:gridCol w="2346120"/>
                <a:gridCol w="792360"/>
                <a:gridCol w="1027080"/>
                <a:gridCol w="1287360"/>
                <a:gridCol w="1513080"/>
                <a:gridCol w="12128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строительства жилья при условии увеличения платежеспособного спроса населения на жильё, тыс. 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2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4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7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4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79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617220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условии увеличения платежеспособного спроса населения на жиль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условии увеличения платежеспособного спроса населения на жилье прогнозируемыми объемами производства основных видов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95E-F98B-46A2-B7CD-7AF751749B4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ношение прогнозируемых объемов ввода жилья в России и возможностей инженерно-технической инфраструктуры в городах по обеспечению жилищного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052640"/>
          <a:ext cx="8713800" cy="4557600"/>
        </p:xfrm>
        <a:graphic>
          <a:graphicData uri="http://schemas.openxmlformats.org/drawingml/2006/table">
            <a:tbl>
              <a:tblPr/>
              <a:tblGrid>
                <a:gridCol w="504720"/>
                <a:gridCol w="1584360"/>
                <a:gridCol w="1295280"/>
                <a:gridCol w="1944720"/>
                <a:gridCol w="1513080"/>
                <a:gridCol w="1871640"/>
              </a:tblGrid>
              <a:tr h="283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можности сетей и мощностей инженерно-технической инфраструктуры в городах (с учетом планируемого развития) по обеспечению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объемы ввода жилья в России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максимально возможные объемы строительства жилья в России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2 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7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1 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9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 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4 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6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1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 2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5 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8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0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 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6 6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E58-D6FE-420A-B065-9CBEF7EDDF9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исполнительной власти муниципальных образ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484280"/>
          <a:ext cx="8785440" cy="4697280"/>
        </p:xfrm>
        <a:graphic>
          <a:graphicData uri="http://schemas.openxmlformats.org/drawingml/2006/table">
            <a:tbl>
              <a:tblPr/>
              <a:tblGrid>
                <a:gridCol w="4284720"/>
                <a:gridCol w="619200"/>
                <a:gridCol w="884160"/>
                <a:gridCol w="781200"/>
                <a:gridCol w="804600"/>
                <a:gridCol w="744840"/>
                <a:gridCol w="66672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рослав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ра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,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но-Алта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я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м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ьян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75D-B821-4659-99F6-C7546FD39A2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1341360"/>
          <a:ext cx="8785440" cy="5132520"/>
        </p:xfrm>
        <a:graphic>
          <a:graphicData uri="http://schemas.openxmlformats.org/drawingml/2006/table">
            <a:tbl>
              <a:tblPr/>
              <a:tblGrid>
                <a:gridCol w="4851360"/>
                <a:gridCol w="847800"/>
                <a:gridCol w="925560"/>
                <a:gridCol w="1081080"/>
                <a:gridCol w="1079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0" y="589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крупнейших строительных комп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D5B-A864-4849-8BBA-F4ADC343631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тистика ответов представителей 45 крупнейших строительных компаний на вопрос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Что, по Вашему мнению, необходимо сделать для совершенствования процедур предоставления земельных участков, предоставления разрешений на строительство  и т.д. (распределите позиции по приоритетности, считая, что 6 обозначает наивысший приоритет, 5 – следующий по значению и т.д.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5784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D66-8C57-4C6B-AC21-92CCABF023A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истика ответов представителей 45 крупнейших строительных компаний на вопрос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Какие, на Ваш взгляд, существуют основные препятствия для увеличения Вашей компанией объемов строительства жилья (распределите нижеследующие позиции по приоритетности, считая, что 9 обозначает наивысший приоритет, 8 – следующий по значению и т.д.)»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8984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FA7-F933-4CEF-860C-7288B5B0C70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финансирования проектов жилищного строительства на разных этапах их реализац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13000"/>
          <a:ext cx="7921440" cy="451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7921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F77-DFB4-4CFF-8DCA-CA90F648402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оимость долевого участия в проектах жилищного строительства на различных этапах реализации проектов  в % от цены продажи 1 кв.м. жилья на этапе завершения строительства (до приемки здания в эксплуатацию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46120" y="1562040"/>
          <a:ext cx="7770960" cy="528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120" y="1562040"/>
                    <a:ext cx="77709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8C8-97AF-4A4A-94B4-963C08C8E42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руктура расходов компании при реализации проекта жилищного строительств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4440" y="1270080"/>
          <a:ext cx="7043760" cy="448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1270080"/>
                    <a:ext cx="70437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68360" y="5950080"/>
            <a:ext cx="719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В среднем по оценке строительных компаний 13 % от построенного объема квартир передается муниципалитетам в качестве оплаты предоставления земельного участка, 9% - на подключение к инженерным сетям и 4,5% - на иные рас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753-9C12-4146-8515-7BE2D7BC452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е коэффициента доступности жилья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484280"/>
          <a:ext cx="8135640" cy="4681440"/>
        </p:xfrm>
        <a:graphic>
          <a:graphicData uri="http://schemas.openxmlformats.org/drawingml/2006/table">
            <a:tbl>
              <a:tblPr/>
              <a:tblGrid>
                <a:gridCol w="2376360"/>
                <a:gridCol w="1150920"/>
                <a:gridCol w="576360"/>
                <a:gridCol w="576000"/>
                <a:gridCol w="573120"/>
                <a:gridCol w="546120"/>
                <a:gridCol w="533520"/>
                <a:gridCol w="534960"/>
                <a:gridCol w="614520"/>
                <a:gridCol w="653760"/>
              </a:tblGrid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ы измерения (до 1998 г. - 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едушевые денежн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8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яя цена на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9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7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3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1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5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й цены стандартной квартиры (54 кв.м.) и среднего годового дохода домохозяйства (3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го годового дохода домохозяйства (3 человека) и средней цены 1 кв. ме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кв. метры /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62499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709-C2F4-4878-966A-44B98A39499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изменения предложения жилищных кредитов населению 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700280"/>
          <a:ext cx="8498160" cy="4672080"/>
        </p:xfrm>
        <a:graphic>
          <a:graphicData uri="http://schemas.openxmlformats.org/drawingml/2006/table">
            <a:tbl>
              <a:tblPr/>
              <a:tblGrid>
                <a:gridCol w="3745080"/>
                <a:gridCol w="790560"/>
                <a:gridCol w="631800"/>
                <a:gridCol w="534960"/>
                <a:gridCol w="536760"/>
                <a:gridCol w="536400"/>
                <a:gridCol w="534960"/>
                <a:gridCol w="536760"/>
                <a:gridCol w="650880"/>
              </a:tblGrid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банками предложение жилищных кредитов (на основе опрос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предложения банками жилищных кредитов с учетом нормативов регулирования и прогнозов развития банковской системы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жилищных кредитов при эмиссии ипотечных ценных бумаг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эмиссии ипотечных ценных бумаг банками (на основе оценок эксперт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 ипотечных ценных бумаг АИЖК (на основе оценки АИЖК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объемы инвестирования в ипотечные ценные бумаги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04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селения на жилищные кредиты (по данным опроса населения и по условиям 2003 г.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6EE-1B81-4950-8D86-3A6FE33785D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ируемые объемы инвестировани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потечные ценные бумаги в текущих ценах (млрд. ру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917720"/>
            <a:ext cx="856908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41B-1EE1-4F0A-80B6-5676B618FB9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предложения банками кредитов застройщикам жилья, в текущих цена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результатам анкетного опроса банков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031840"/>
          <a:ext cx="8229600" cy="3176640"/>
        </p:xfrm>
        <a:graphic>
          <a:graphicData uri="http://schemas.openxmlformats.org/drawingml/2006/table">
            <a:tbl>
              <a:tblPr/>
              <a:tblGrid>
                <a:gridCol w="2932200"/>
                <a:gridCol w="757080"/>
                <a:gridCol w="758880"/>
                <a:gridCol w="754200"/>
                <a:gridCol w="755640"/>
                <a:gridCol w="758880"/>
                <a:gridCol w="755640"/>
                <a:gridCol w="7570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 со стороны застройщиков (по данным опроса регион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94C-E0A4-4F01-91A5-6213A60128F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результа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ных оцено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модели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A20-2476-4810-8F5B-941C2FB4E7C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, используемые в прогнозных оце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002440" cy="4286160"/>
        </p:xfrm>
        <a:graphic>
          <a:graphicData uri="http://schemas.openxmlformats.org/drawingml/2006/table">
            <a:tbl>
              <a:tblPr/>
              <a:tblGrid>
                <a:gridCol w="2581200"/>
                <a:gridCol w="604800"/>
                <a:gridCol w="600120"/>
                <a:gridCol w="608040"/>
                <a:gridCol w="600120"/>
                <a:gridCol w="601560"/>
                <a:gridCol w="601920"/>
                <a:gridCol w="603000"/>
                <a:gridCol w="600120"/>
                <a:gridCol w="601560"/>
              </a:tblGrid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зовы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ссимистически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8AE-7656-455D-B2C6-9E732B559B0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зовы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594-1117-4024-80EF-2CDED7409B9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прогнозируемых объемов жилищного строительства (базовый сценар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628640"/>
          <a:ext cx="7920000" cy="4481640"/>
        </p:xfrm>
        <a:graphic>
          <a:graphicData uri="http://schemas.openxmlformats.org/drawingml/2006/table">
            <a:tbl>
              <a:tblPr/>
              <a:tblGrid>
                <a:gridCol w="1008000"/>
                <a:gridCol w="3382920"/>
                <a:gridCol w="503280"/>
                <a:gridCol w="504720"/>
                <a:gridCol w="505080"/>
                <a:gridCol w="503280"/>
                <a:gridCol w="504720"/>
                <a:gridCol w="503280"/>
                <a:gridCol w="5047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ерв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, млн.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Второ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 при условии увеличения платежеспособного спроса населения и  сокращения административных ограничений и решения проблем, тормозящих развитие строительства, млн. кв. 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13E-EF94-476C-81DA-E494EFE88F9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возможных объемов предложения банками жилищных кредитов населению (базовый сценарий)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041560"/>
          <a:ext cx="8229600" cy="3403440"/>
        </p:xfrm>
        <a:graphic>
          <a:graphicData uri="http://schemas.openxmlformats.org/drawingml/2006/table">
            <a:tbl>
              <a:tblPr/>
              <a:tblGrid>
                <a:gridCol w="2409840"/>
                <a:gridCol w="819000"/>
                <a:gridCol w="819360"/>
                <a:gridCol w="820800"/>
                <a:gridCol w="819000"/>
                <a:gridCol w="820800"/>
                <a:gridCol w="820800"/>
                <a:gridCol w="900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вый вариант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ксимальное планируемое банками предложение жилищных кредитов (на основе опросов), млрд.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торой вариант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е объемы жилищных кредитов при эмиссии ипотечных ценных бумаг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EB2-8C20-4F4E-B9CD-3BBA517A198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базового сцен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4322520"/>
        </p:xfrm>
        <a:graphic>
          <a:graphicData uri="http://schemas.openxmlformats.org/drawingml/2006/table">
            <a:tbl>
              <a:tblPr/>
              <a:tblGrid>
                <a:gridCol w="1509840"/>
                <a:gridCol w="1224000"/>
                <a:gridCol w="2379600"/>
                <a:gridCol w="2658960"/>
              </a:tblGrid>
              <a:tr h="5169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кредит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Инерционн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Увеличение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Развитие рынка жилищных креди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оведение всех рефор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C27-A1E3-436C-88CA-C68A911A189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3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ционный вариан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920" y="836640"/>
          <a:ext cx="8794800" cy="5262480"/>
        </p:xfrm>
        <a:graphic>
          <a:graphicData uri="http://schemas.openxmlformats.org/drawingml/2006/table">
            <a:tbl>
              <a:tblPr/>
              <a:tblGrid>
                <a:gridCol w="3322440"/>
                <a:gridCol w="106380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1CE-EA0D-4EA5-B636-14549258342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эффициенты доступности жилья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904000"/>
            <a:ext cx="6624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медианных показателей и среднедушевых доходов населения без верхнего деци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ы с использованием методики ИЭ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1197000"/>
          <a:ext cx="827244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97000"/>
                    <a:ext cx="8272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9B3-2C1F-4BFD-94D3-149E43D17D7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ение всех реформ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981000"/>
          <a:ext cx="8785440" cy="501660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CF4-BF7D-4B66-B5BF-7AF1C764031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ирование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907920"/>
          <a:ext cx="8785440" cy="502452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E96-C8CC-4B76-9E6C-E84FE4B4435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рынка жилищных кредито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836640"/>
          <a:ext cx="9001080" cy="5235480"/>
        </p:xfrm>
        <a:graphic>
          <a:graphicData uri="http://schemas.openxmlformats.org/drawingml/2006/table">
            <a:tbl>
              <a:tblPr/>
              <a:tblGrid>
                <a:gridCol w="3241800"/>
                <a:gridCol w="1217520"/>
                <a:gridCol w="635040"/>
                <a:gridCol w="620640"/>
                <a:gridCol w="665280"/>
                <a:gridCol w="679320"/>
                <a:gridCol w="681120"/>
                <a:gridCol w="677880"/>
                <a:gridCol w="5824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024-70E5-4B33-A099-5289D7F45A4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206360"/>
          <a:ext cx="8893080" cy="437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06360"/>
                    <a:ext cx="889308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FD3-5B7E-47B1-B856-4BE72857868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цены жиль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1700280"/>
          <a:ext cx="8470800" cy="395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00280"/>
                    <a:ext cx="8470800" cy="39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116000" y="4797360"/>
            <a:ext cx="532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6AE-454E-42A5-A853-BC4EB154D9C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приобретения жиль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3840" y="1422360"/>
          <a:ext cx="847080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1422360"/>
                    <a:ext cx="847080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55640" y="624996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 по средним ценам на жилье и доходам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A92-7FFB-41C9-A424-EEA11929F64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их жилищные условия (% от домохозяйств, имеющих потребность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30120" y="162864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62864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8360" y="645336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2C5-B329-496C-BE6A-5F75935C494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ая жилищные условия (% от домохозяйств, имеющих потребность в приобретении (строительстве) жилья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6453360"/>
            <a:ext cx="66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9280" y="1409760"/>
          <a:ext cx="8964720" cy="485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09760"/>
                    <a:ext cx="896472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637-B0A1-4A35-B0E6-31402AC4669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минимальных реальных доходов, необходимых для приобретения стандартной квартиры с помощью креди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00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0%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30120" y="1739880"/>
          <a:ext cx="8445600" cy="39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39880"/>
                    <a:ext cx="84456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4149720"/>
            <a:ext cx="446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88F-C402-4B63-926F-12904EB4989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мальные реальные доходы, необходимые для 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95200" y="152388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200" y="152388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D48-1E3E-4521-880C-1A202FC2603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жилья в регионах Росс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вартал 2003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890720"/>
          <a:ext cx="6264360" cy="43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720"/>
                    <a:ext cx="626436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361200" y="2997360"/>
          <a:ext cx="2782800" cy="172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61200" y="2997360"/>
                    <a:ext cx="27828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68360" y="6467400"/>
            <a:ext cx="63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рассчитан по средним показателям по 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0BF-A30E-4729-B6D2-C52014A1C89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я населения, которая имеет доходы, достаточные д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5661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 Предполагается неизменная дифференциация населения по дох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600" y="1574640"/>
          <a:ext cx="9039240" cy="374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1574640"/>
                    <a:ext cx="90392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E78-AF09-4441-B139-3D28270E843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ованный спрос на жилье (% от спроса на жилье)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54160" y="1627200"/>
          <a:ext cx="892800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627200"/>
                    <a:ext cx="892800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24000" y="623736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казатель рассчитывается как отношение реализованного спроса на жилье (руб.) к  спросу на жилье (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D3E-8078-42A3-9AB4-FCC7F1E2C1E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еспеченность жилье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кв. метров на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146160" y="1413000"/>
          <a:ext cx="9290160" cy="424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6160" y="1413000"/>
                    <a:ext cx="9290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50920" y="5773680"/>
            <a:ext cx="72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 с учетом итогов переписи населения 2003 г. в предположении выбытия жилищного фонда в 1% в год и постоянной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507-D1BC-4A8A-BC90-5AFD39091AA8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еализованный спрос на кредиты (% от спроса на кредиты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1717560"/>
          <a:ext cx="9144000" cy="39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17560"/>
                    <a:ext cx="91440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46D-E7BD-4707-97F8-2E5B33CC2FF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арактеристика дисбаланса на рынках жи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B53-B37C-474A-B902-119A1A33612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ервичный рынок жиль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30120" y="1778040"/>
          <a:ext cx="8636040" cy="3390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78040"/>
                    <a:ext cx="86360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405-EC88-4AFA-A8E7-A15CE8362E2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Вторичный рынок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30120" y="1841400"/>
          <a:ext cx="8763120" cy="36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841400"/>
                    <a:ext cx="876312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369-764D-40BC-8A30-127EFF0EEC4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ынок строительства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30120" y="1562040"/>
          <a:ext cx="8508960" cy="367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562040"/>
                    <a:ext cx="85089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CA5-EF46-4E39-A991-2766028B62D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ы между сегментами рынка жилья в условиях дисбаланса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1989000"/>
            <a:ext cx="194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ичный рынок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1989000"/>
            <a:ext cx="180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торичный рынок жи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4221000"/>
            <a:ext cx="2305080" cy="9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29" idx="2"/>
            <a:endCxn id="231" idx="0"/>
          </p:cNvCxnSpPr>
          <p:nvPr/>
        </p:nvCxnSpPr>
        <p:spPr>
          <a:xfrm flipH="1" rot="16200000">
            <a:off x="2790000" y="2727000"/>
            <a:ext cx="1080000" cy="19090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2"/>
            <a:endCxn id="231" idx="0"/>
          </p:cNvCxnSpPr>
          <p:nvPr/>
        </p:nvCxnSpPr>
        <p:spPr>
          <a:xfrm rot="5400000">
            <a:off x="4734000" y="2691360"/>
            <a:ext cx="1080000" cy="19803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E74-9CB2-46A0-91DC-B82632BFF95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арактеристика дисбаланса на рынке жилищного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1239840"/>
          <a:ext cx="7797600" cy="269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39840"/>
                    <a:ext cx="779760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9640" y="3789360"/>
          <a:ext cx="7645680" cy="2900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789360"/>
                    <a:ext cx="764568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D76-8AEA-420A-94EE-4800B5E32D4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изменения реальных цен на жилье, средней стоимости строительства и реальных доходов населения (199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00%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879560"/>
          <a:ext cx="789948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79560"/>
                    <a:ext cx="789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26920" y="62373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F01D-6AF6-4000-9F07-55C51AD2DEC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F15-2480-483B-9D88-53A0FB8BA53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олее медленные по сравнению с базовым сценарием темпы роста реальных располагаемых доходов насе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жилищного строительства, предполагающее сохранение неизменными всех существующих административных барьеров, факторов и ограничений, влияющих на темпы роста объемов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менения на рынках жилья и жилищных кредитов, изменения предпочтительных способов улучшения жилищных условий, развитие банковской системы и увеличение объемов жилищного кредитования происходят по более консервативному пути, более медленными темпа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E05-1869-430D-9887-97F895065B2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ы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3840" y="838080"/>
          <a:ext cx="8140680" cy="490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838080"/>
                    <a:ext cx="81406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A0D-3C09-4211-BB10-B7D3A5E8613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ы жиль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4941720"/>
            <a:ext cx="5759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01520" y="1557360"/>
          <a:ext cx="9042480" cy="428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557360"/>
                    <a:ext cx="904248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62B-8D22-41EF-99E4-AADF525B40D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буемые объемы строительства для удовлетворения спроса на жилье и сохранения реальных цен на жилье на уровне 2003 г. (при максимально возможном удовлетворении спроса на жилищные  креди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00000" y="1089000"/>
          <a:ext cx="7266240" cy="5653080"/>
        </p:xfrm>
        <a:graphic>
          <a:graphicData uri="http://schemas.openxmlformats.org/drawingml/2006/table">
            <a:tbl>
              <a:tblPr/>
              <a:tblGrid>
                <a:gridCol w="3702240"/>
                <a:gridCol w="507960"/>
                <a:gridCol w="509400"/>
                <a:gridCol w="509760"/>
                <a:gridCol w="507960"/>
                <a:gridCol w="511200"/>
                <a:gridCol w="507960"/>
                <a:gridCol w="509760"/>
              </a:tblGrid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, млн. кв. м.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жилья, млн. кв.м. общей площ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е возмож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ватка потенциальных возможностей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н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 в городах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3B0-7EB0-40FB-8283-15C712B56DB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результаты и 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7F3-BD9E-4790-9E1E-3435592EAA7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требность населения в улучшении жилищных условий (по результатам опроса насе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потребность  в жилье - 1 569,8 млн. кв. м (17 767,5 млрд. рублей в ценах 2003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ребность в строительстве нового жилья - 1 291 млн. кв. м (14 612,6 млрд. руб.) (не менее 46,1% от существующего жилищного фо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4% всех домохозяйств уже сегодня потенциально могут приобрести жилье за счет собственных или заем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3E3-E234-40DF-B534-9C45CE2F5257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и перспектив развития жилищного стро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лижайшие  7 лет ожидается рост объемов строительства жилья, но спрос полностью не будет удовлетво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ы ввода увеличатся с 36 млн. кв. м. в 2003 г. 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3 млн. кв. м в 2010 г. при сохранении существующих тенденций в развитии жилищного строительства и жилищного кредитова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2 млн. кв. м. в 2010 г. при варианте развития строительства в условиях увеличения платежеспособного спроса населения на жилье, снижения административных барьеров и решения других проблем в сфере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инженерно-технической инфраструкту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кредитования застройщ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247-AE1F-448F-AA68-A17D5504A1C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развития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при максимальных планируемых банками объемах жилищного кредитования населения спрос на жилье будет существенно ограничен объемам предложения жилищных кредитов и удовлетворен не более, чем на 39% даже в 201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звитии рынка ипотечных ценных бумаг, спрос на жилищные кредиты может быть полностью удовлетворен начиная с 2007 г. При этом объем жилищного кредитования в 2010 г. составит 521 млрд. руб. (в ценах 201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и банков по кредитованию застройщиков (131 – 137 млрд. руб. в год) существенно отстают от потребности застройщиков и составляют лишь 12 – 15% требуемых объемов кредит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570-CE65-4402-9B1B-AB698FB701F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ые результаты прогнозных оценок (на основе моделирования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условии проведения необходимых реформ реализованный спрос на жилье, т.е. спрос, обеспеченный предложением, увеличится с 350 млрд. руб. в 2004 г. до 1,9 трлн. руб. в 2010 г. (в текущих ценах), составив в совокупности за рассматриваемый период 5,8 трлн. руб. (в ценах 2003 г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среднем за период с 2004 по 2010 гг. доля реализованного спроса на жилье составит 58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всех реформ доля домохозяйств, которым будет доступно приобретение стандартной квартиры (54 кв. м.) за счет собственных средств и жилищных кредитов, увеличится от всей совокупности домохозяйств с 9% в 2003 г. до 31% в 2010 г. При инерционном варианте эта доля вырастет до 25%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необходимых реформ возможна стабилизация реальных цен на жилье, начиная с 2007 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452-2FDB-407D-AAE5-2D00BD659DF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намика объемов ввода нового жилья и изменения цен на первичном и вторичном рынках жи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557360"/>
          <a:ext cx="7920000" cy="4421160"/>
        </p:xfrm>
        <a:graphic>
          <a:graphicData uri="http://schemas.openxmlformats.org/drawingml/2006/table">
            <a:tbl>
              <a:tblPr/>
              <a:tblGrid>
                <a:gridCol w="2367000"/>
                <a:gridCol w="912600"/>
                <a:gridCol w="546120"/>
                <a:gridCol w="557280"/>
                <a:gridCol w="558720"/>
                <a:gridCol w="557280"/>
                <a:gridCol w="558720"/>
                <a:gridCol w="557280"/>
                <a:gridCol w="619200"/>
                <a:gridCol w="685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ввода нового жил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кв. м. в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.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перв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втор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яя стоимость строительства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средней ценой жилья на первичном рынке и средней стоимостью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средней цены жилья на первичном рынке и средней стоимости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611280" y="6308640"/>
            <a:ext cx="56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217-1072-407B-848C-BF0D4C77F9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домохозяйствами текущего состояния своего жилья (в % от числа домохозяйств, в среднем по всей выбор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635520" cy="489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6000" y="3500280"/>
            <a:ext cx="201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я 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DC1-ACB6-43B3-A7EE-3DBD6D14CA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довлетворенность населения жилищными условиями в 2003 г. (в % от домохозяйст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1640"/>
          <a:ext cx="8826480" cy="486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1640"/>
                    <a:ext cx="882648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A9C-1F62-408A-94EA-4C13C599211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6:45:38Z</dcterms:created>
  <dc:creator>rogozhina</dc:creator>
  <dc:description/>
  <dc:language>en-US</dc:language>
  <cp:lastModifiedBy>Туманов Андрей</cp:lastModifiedBy>
  <dcterms:modified xsi:type="dcterms:W3CDTF">2004-06-03T08:24:35Z</dcterms:modified>
  <cp:revision>99</cp:revision>
  <dc:subject/>
  <dc:title>Слайд 1</dc:title>
</cp:coreProperties>
</file>